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9AF-A960-4E8F-8117-333DE6A7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F83-DC35-4B5B-A4B3-E58E2DBB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6EE-2BE1-4103-AE0C-2DFF82C9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181-823D-4150-9A61-4B1D1B1A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FDF-5B7D-468B-8A3F-ACB0F95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8FC-BC95-439F-8AAA-26B51D7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176-3EF4-48C2-A6C5-2FD9335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D94-0381-46B9-95B9-6EE2D15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4B6-8393-47C2-B1A7-915C9030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2E9-A75F-47F4-A383-F6CC61C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0F8-3DD3-46D4-BF37-991B59E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E4F-BB27-4489-9F37-0C55FBC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527-F96F-4DF3-96EA-0A8A2F11F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232000" cy="15127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menti 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404640"/>
            <a:ext cx="3313080" cy="129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persone vanno a vive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 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vere in un 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76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413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940360" y="691920"/>
            <a:ext cx="1152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333360"/>
            <a:ext cx="165564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ovar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1700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1268280"/>
            <a:ext cx="2160360" cy="187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gg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 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sempio 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916280"/>
            <a:ext cx="3095640" cy="1873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in un paese 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nieri a vivere e cer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341360"/>
            <a:ext cx="21600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2232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le pers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un paese se 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nno all’ 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vivere e cer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789360"/>
            <a:ext cx="20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3068640"/>
            <a:ext cx="251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Italia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igranti 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5373720"/>
            <a:ext cx="1584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16720" y="4941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4941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445000"/>
            <a:ext cx="1871640" cy="9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2:37Z</dcterms:created>
  <dc:creator>studente</dc:creator>
  <dc:description/>
  <dc:language>en-US</dc:language>
  <cp:lastModifiedBy>studente</cp:lastModifiedBy>
  <dcterms:modified xsi:type="dcterms:W3CDTF">2017-01-09T10:31:28Z</dcterms:modified>
  <cp:revision>3</cp:revision>
  <dc:subject/>
  <dc:title>Diapositiva 1</dc:title>
</cp:coreProperties>
</file>